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4AC-0FAA-4C7D-A20A-8D870A77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E8E-3518-436F-8A51-E05B272C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48F-9E2C-48F7-B0CA-07F0F3F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B5F-1C9C-4BEA-9597-2B51857E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FA9-E78B-4488-88C9-52952D7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443-0B56-44B1-9740-AC94AE7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F52-82D7-4621-B2C4-898AEC7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669-7358-41A8-A629-0B74C25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C08-39EB-444C-AB97-2BACB19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6DD-4387-419D-A4C6-C231A70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995-E122-4A23-8AF9-1875C850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CD6-D586-40F3-8055-81CDBCD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605B-4454-41FD-819B-76BEFD91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th Histo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keup 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Deposition is the____ of sediment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Stratification is the ____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ross section diagram to the right to answer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Which rock layer is the olde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Which rock layer is the younge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Can you put the rock layers in order from oldest to young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867280" y="1066680"/>
          <a:ext cx="3276720" cy="2449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066680"/>
                    <a:ext cx="327672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0" y="3886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h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3276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est rock is at letter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ult is located at position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ma intrusion is located at letter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oungest rock is at location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conformity is located at letters _____ &amp;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letters in order from old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41888"/>
          <a:stretch/>
        </p:blipFill>
        <p:spPr>
          <a:xfrm>
            <a:off x="3505320" y="2895480"/>
            <a:ext cx="563868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18892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1962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59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3505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he events in order: oldest to youn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ult is located at position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 A rock has ¼ of original amount of parent material left. How many half- lives of that isotope have passed since the rock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 Scientists use radioactive decay to measure _____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838080"/>
            <a:ext cx="19047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,L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4267080" cy="24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62120" y="7010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76520" y="6705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8088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838080" y="5562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29528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90512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5627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56386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2578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486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8769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44956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410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8862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8769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 _____is most responsible for adding oxygen into the Earth’s early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 Era was dominated by reptiles and the ____ Era was dominated by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n igneous rock contains a radioactive isotope with a ½  life of 10 million yrs. Absolute dating shows ¼  of the original concentration of the parent isotope is left. The igneous rock is _____million yrs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bout 90 percent of Earth’s history is within the _______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209680"/>
            <a:ext cx="18288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synthe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14:49Z</dcterms:created>
  <dc:creator>jfuller</dc:creator>
  <dc:description/>
  <dc:language>en-US</dc:language>
  <cp:lastModifiedBy>jfuller</cp:lastModifiedBy>
  <dcterms:modified xsi:type="dcterms:W3CDTF">2011-12-05T21:36:19Z</dcterms:modified>
  <cp:revision>17</cp:revision>
  <dc:subject/>
  <dc:title>Slide 1</dc:title>
</cp:coreProperties>
</file>